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Snezana Jovanovic" initials="SJ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5.xml><?xml version="1.0" encoding="utf-8"?>
<p:cmLst xmlns:p="http://schemas.openxmlformats.org/presentationml/2006/main">
  <p:cm authorId="0" dt="2022-08-23T19:37:24.260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9B6B-5EB9-47F2-A0D4-CE48FF136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9BED-A0F1-45B3-95F0-13B616A8DE6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419E-4B93-459F-9916-7B932393B4C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0C98-A234-4C8E-91E8-ECEF689BE16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DE9F-81C0-4567-BC21-61983926A309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696C-3629-4694-9F25-E1967ED14682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D647-F89F-4D4D-8E38-4E7390564D74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03AA-B7CC-4DDE-87D7-8EC6BEA6F7D6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9A8C-25F7-4510-BB7D-A762D54B3A3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FCC1-20D8-4DB3-9F8A-1898C1C1EB1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8ED9-6B46-40D1-A43E-DA14CA6BB03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5754-0356-47CD-AB45-9DF559BDF32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0051-C676-4545-A948-ACE85F171E8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8441-822B-49F1-AFA4-08F05037BC2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AF88-2496-444D-AFED-9A48E92798B4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1812-E380-4602-ABDA-F4281A74A702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6F6F-1092-43C1-873C-8A3CC78DC153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C6E9-0404-4408-8DF9-07BE62FE940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5A54-C298-4E94-9673-EEFFEDB458E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D857-50D5-45F6-AA67-E70F836D8CD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AC4D-A40C-49B8-93C3-0ADAFDE7237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763F-9CF9-4FA6-A96F-18F8146340A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8F08-0A1A-4030-B28A-E61340371A55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75E2-1282-4721-A6D0-A95201B206CE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FEAC-9818-4F4C-8215-2D7BAB7568B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774D-FD31-4F14-A796-90EB0B81FE58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56FD-6A9D-46FA-9732-8109A2787FA7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CE22-1002-4431-A16D-97F18E6CF56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517-E4EC-4AC2-82A0-9C80E306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8FF-CB8A-4FB5-965E-092BBB72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8DF-E984-47F4-A832-15CE50EF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633D-D326-4D02-9F17-0021E479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0AC-76DA-4B8A-B286-6048EDC2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018-CB92-4B13-83D1-28480410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4A7-6F08-4A30-B3CE-9E077026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935-EC8C-4C11-9077-46CB62EA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E93-5736-4839-94BF-E29AFB9F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929-4A62-41F7-9971-0698D979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46B-6A40-4C9B-9B29-13C746B7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135-DAFD-4FE6-BA3E-B20E4548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4A58-61E6-481A-964D-35A61F566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ХЕМИЈСКА РАВНОТЕЖА 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ОНСТАНТА РАВНОТЕЖЕ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еза измеђ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4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 константе равнотеж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000" spc="-1" strike="noStrike" baseline="-18000">
                <a:solidFill>
                  <a:srgbClr val="000000"/>
                </a:solidFill>
                <a:latin typeface="Arial"/>
              </a:rPr>
              <a:t>eq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1371600" y="4714920"/>
            <a:ext cx="6400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7662960" y="6458040"/>
            <a:ext cx="145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7.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1400040" y="4869000"/>
            <a:ext cx="6400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50920" y="333360"/>
          <a:ext cx="4182840" cy="5791320"/>
        </p:xfrm>
        <a:graphic>
          <a:graphicData uri="http://schemas.openxmlformats.org/drawingml/2006/table">
            <a:tbl>
              <a:tblPr/>
              <a:tblGrid>
                <a:gridCol w="1287360"/>
                <a:gridCol w="2895480"/>
              </a:tblGrid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G (kcal/mo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8.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8" name="Object 2"/>
              <p:cNvSpPr txBox="1"/>
              <p:nvPr/>
            </p:nvSpPr>
            <p:spPr>
              <a:xfrm>
                <a:off x="4857840" y="2962440"/>
                <a:ext cx="24508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Up Arrow 5"/>
          <p:cNvSpPr/>
          <p:nvPr/>
        </p:nvSpPr>
        <p:spPr>
          <a:xfrm rot="18274200">
            <a:off x="3755880" y="2114280"/>
            <a:ext cx="1357200" cy="13352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Up Arrow 6"/>
          <p:cNvSpPr/>
          <p:nvPr/>
        </p:nvSpPr>
        <p:spPr>
          <a:xfrm rot="14122800">
            <a:off x="3756600" y="3731040"/>
            <a:ext cx="1357560" cy="1336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721400" y="11984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RT ln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НСТАНТА РАВНОТЕ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2603160" y="968400"/>
            <a:ext cx="39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A  +  bB   </a:t>
            </a:r>
            <a:r>
              <a:rPr b="0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cC  +  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"/>
              <p:cNvSpPr txBox="1"/>
              <p:nvPr/>
            </p:nvSpPr>
            <p:spPr>
              <a:xfrm>
                <a:off x="1042920" y="1700280"/>
                <a:ext cx="216072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3719520" y="1700280"/>
                <a:ext cx="25560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C</m:t>
                        </m:r>
                        <m:sSubSup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[</m:t>
                        </m:r>
                        <m:r>
                          <m:t xml:space="preserve">D</m:t>
                        </m:r>
                        <m:sSubSup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bSup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[</m:t>
                        </m:r>
                        <m:r>
                          <m:t xml:space="preserve">B</m:t>
                        </m:r>
                        <m:sSubSup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Rectangle 6"/>
          <p:cNvSpPr/>
          <p:nvPr/>
        </p:nvSpPr>
        <p:spPr>
          <a:xfrm>
            <a:off x="0" y="3547800"/>
            <a:ext cx="88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чина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дређује дали је фаворизовано стварање продуката или реактан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 &gt;&gt; 1: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воризовано је стварање продуката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ј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&gt;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 &lt;&lt; 1: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воризовано је стварање реактаната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ј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&lt; 0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407880" y="681120"/>
            <a:ext cx="849816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да ј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K &gt; 1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у равнотежи има више продуката него реактана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 (g) + 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g)         CO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[CO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] = 4.57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[CO] [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фаворизовано је настајање продука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4214880" y="357336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4785840" y="2276640"/>
            <a:ext cx="609840" cy="152280"/>
            <a:chOff x="4785840" y="2276640"/>
            <a:chExt cx="609840" cy="152280"/>
          </a:xfrm>
        </p:grpSpPr>
        <p:sp>
          <p:nvSpPr>
            <p:cNvPr id="132" name="Line 8"/>
            <p:cNvSpPr/>
            <p:nvPr/>
          </p:nvSpPr>
          <p:spPr>
            <a:xfrm>
              <a:off x="4786200" y="227664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 flipH="1">
              <a:off x="4785840" y="242892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Box 1"/>
          <p:cNvSpPr/>
          <p:nvPr/>
        </p:nvSpPr>
        <p:spPr>
          <a:xfrm>
            <a:off x="434880" y="5724360"/>
            <a:ext cx="809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рачунати вредност Гибсове слободне енергије у овој реакцији на 298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17440" y="1039680"/>
            <a:ext cx="84996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Да ли је у овом случају фаворизовано настајање реактаната или продуката реа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g) +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g)         2 HI (g)   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5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3696840" y="2349360"/>
            <a:ext cx="609840" cy="152280"/>
            <a:chOff x="3696840" y="2349360"/>
            <a:chExt cx="609840" cy="152280"/>
          </a:xfrm>
        </p:grpSpPr>
        <p:sp>
          <p:nvSpPr>
            <p:cNvPr id="137" name="Line 8"/>
            <p:cNvSpPr/>
            <p:nvPr/>
          </p:nvSpPr>
          <p:spPr>
            <a:xfrm>
              <a:off x="3697200" y="234936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9"/>
            <p:cNvSpPr/>
            <p:nvPr/>
          </p:nvSpPr>
          <p:spPr>
            <a:xfrm flipH="1">
              <a:off x="3696840" y="250164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Box 5"/>
          <p:cNvSpPr/>
          <p:nvPr/>
        </p:nvSpPr>
        <p:spPr>
          <a:xfrm>
            <a:off x="419040" y="3860640"/>
            <a:ext cx="809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рачунати вредност Гибсове слободне енергије у овој реакцији на 500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457200" y="1447920"/>
            <a:ext cx="849780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зразити константу равнотеже за једна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[Ag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[A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] [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14400" y="200016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Ag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 + 2 NH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3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            Ag(NH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3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7"/>
          <p:cNvGrpSpPr/>
          <p:nvPr/>
        </p:nvGrpSpPr>
        <p:grpSpPr>
          <a:xfrm>
            <a:off x="5143320" y="2286000"/>
            <a:ext cx="609840" cy="152280"/>
            <a:chOff x="5143320" y="2286000"/>
            <a:chExt cx="609840" cy="152280"/>
          </a:xfrm>
        </p:grpSpPr>
        <p:sp>
          <p:nvSpPr>
            <p:cNvPr id="143" name="Line 8"/>
            <p:cNvSpPr/>
            <p:nvPr/>
          </p:nvSpPr>
          <p:spPr>
            <a:xfrm>
              <a:off x="5143680" y="228600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9"/>
            <p:cNvSpPr/>
            <p:nvPr/>
          </p:nvSpPr>
          <p:spPr>
            <a:xfrm flipH="1">
              <a:off x="5143320" y="243828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8"/>
          <p:cNvSpPr/>
          <p:nvPr/>
        </p:nvSpPr>
        <p:spPr>
          <a:xfrm>
            <a:off x="2714760" y="4357800"/>
            <a:ext cx="1981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434880" y="5724360"/>
            <a:ext cx="80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ада ће ова реакција бити спонтан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214200" y="285840"/>
            <a:ext cx="849816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0080"/>
                </a:solidFill>
                <a:latin typeface="Calibri"/>
              </a:rPr>
              <a:t>Пример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разити константу равнотеж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 следећу реакци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CH</a:t>
            </a:r>
            <a:r>
              <a:rPr b="0" lang="en-US" sz="3000" spc="-1" strike="noStrike" baseline="-25000">
                <a:solidFill>
                  <a:srgbClr val="80008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 (g) + 2 H</a:t>
            </a:r>
            <a:r>
              <a:rPr b="0" lang="en-US" sz="30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S (g)             CS</a:t>
            </a:r>
            <a:r>
              <a:rPr b="0" lang="en-US" sz="30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 (g) + 4 H</a:t>
            </a:r>
            <a:r>
              <a:rPr b="0" lang="en-US" sz="30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 (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338560" y="2554200"/>
            <a:ext cx="45720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S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H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2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3328920" y="316404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7"/>
          <p:cNvGrpSpPr/>
          <p:nvPr/>
        </p:nvGrpSpPr>
        <p:grpSpPr>
          <a:xfrm>
            <a:off x="3357360" y="1857240"/>
            <a:ext cx="609840" cy="152280"/>
            <a:chOff x="3357360" y="1857240"/>
            <a:chExt cx="609840" cy="152280"/>
          </a:xfrm>
        </p:grpSpPr>
        <p:sp>
          <p:nvSpPr>
            <p:cNvPr id="151" name="Line 8"/>
            <p:cNvSpPr/>
            <p:nvPr/>
          </p:nvSpPr>
          <p:spPr>
            <a:xfrm>
              <a:off x="3357720" y="185724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 flipH="1">
              <a:off x="3357360" y="200952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1"/>
          <p:cNvSpPr/>
          <p:nvPr/>
        </p:nvSpPr>
        <p:spPr>
          <a:xfrm>
            <a:off x="214200" y="4508640"/>
            <a:ext cx="8812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а равнотеже може бити изражена као однос концентрација mol/l  K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 као однос парцијалних притисака продуката и реактаната тада је  K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965240" y="800280"/>
                <a:ext cx="133668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3884760" y="711360"/>
                <a:ext cx="14414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2484360" y="2305080"/>
                <a:ext cx="30196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V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e>
                            </m:d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V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e>
                            </m:d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V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V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</m:d>
                      </m:e>
                      <m:sup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"/>
              <p:cNvSpPr txBox="1"/>
              <p:nvPr/>
            </p:nvSpPr>
            <p:spPr>
              <a:xfrm>
                <a:off x="2114640" y="4011480"/>
                <a:ext cx="553068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</m:d>
                      </m:e>
                      <m:sup>
                        <m:r>
                          <m:t xml:space="preserve">D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Rectangle 5"/>
          <p:cNvSpPr/>
          <p:nvPr/>
        </p:nvSpPr>
        <p:spPr>
          <a:xfrm>
            <a:off x="1771560" y="864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A(g)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bB(g)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567240" y="9590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39800" y="1630800"/>
            <a:ext cx="79135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 =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 =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V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ремина су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441720" y="3543120"/>
            <a:ext cx="75193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V and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V (mol/L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 да се замени з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[A] &amp; [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68560" y="4817520"/>
            <a:ext cx="807840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 = b - a = m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асног продукт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m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асног реакта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им ако ј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(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 Br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(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2HBr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K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RT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 K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Хомогена равнотеж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46440" y="825480"/>
            <a:ext cx="45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в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рсте у истој фаз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551320" y="1643040"/>
            <a:ext cx="355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g)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2N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571680" y="2565360"/>
                <a:ext cx="267624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3929040" y="2357280"/>
                <a:ext cx="247032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Rectangle 6"/>
          <p:cNvSpPr/>
          <p:nvPr/>
        </p:nvSpPr>
        <p:spPr>
          <a:xfrm>
            <a:off x="573120" y="4331520"/>
            <a:ext cx="65815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 општем случају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K</a:t>
            </a:r>
            <a:r>
              <a:rPr b="1" lang="en-GB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K</a:t>
            </a:r>
            <a:r>
              <a:rPr b="1" lang="en-GB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2403360" y="2558880"/>
                <a:ext cx="37260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¢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OH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"/>
              <p:cNvSpPr txBox="1"/>
              <p:nvPr/>
            </p:nvSpPr>
            <p:spPr>
              <a:xfrm>
                <a:off x="2187720" y="5661000"/>
                <a:ext cx="41576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OH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Rectangle 3"/>
          <p:cNvSpPr/>
          <p:nvPr/>
        </p:nvSpPr>
        <p:spPr>
          <a:xfrm>
            <a:off x="0" y="-367200"/>
            <a:ext cx="914400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да је вода реактант или продук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центрација воде не улази у констант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внотеже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OH(aq) + H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(l)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H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O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aq) + H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53440" y="4253760"/>
            <a:ext cx="87559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L (1000 g) = 55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лова вод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о да ј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H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] = 55.5 M &gt;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тно веће од других врст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 се узима да је концентрација вод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[H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тантн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585880" y="3264120"/>
            <a:ext cx="33613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је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K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K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’[H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нски производ вод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3"/>
              <p:cNvSpPr txBox="1"/>
              <p:nvPr/>
            </p:nvSpPr>
            <p:spPr>
              <a:xfrm>
                <a:off x="2050920" y="1125360"/>
                <a:ext cx="4710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2195640" y="2205000"/>
                <a:ext cx="4376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TextBox 6"/>
          <p:cNvSpPr/>
          <p:nvPr/>
        </p:nvSpPr>
        <p:spPr>
          <a:xfrm>
            <a:off x="324000" y="344664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апишите константу равнотеже и израчунајте коју вредност за ову реакцију има Гибсова слободна енергиј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44236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Слободн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нергиј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промен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слободн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нерг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357200"/>
            <a:ext cx="957276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мена слободне енергије процеса на константном притиску и константној температури је дата Гибсовом једначин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- T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 je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гативно,процес је спонта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je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0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зитивно,процес није спонтан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j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цес се налази у равноте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 Хетерогена равноте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2214720" y="2205000"/>
                <a:ext cx="319392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¢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CaO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C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2" name="Object 1"/>
          <p:cNvGraphicFramePr/>
          <p:nvPr/>
        </p:nvGraphicFramePr>
        <p:xfrm>
          <a:off x="5867280" y="5884920"/>
          <a:ext cx="2637000" cy="7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5884920"/>
                    <a:ext cx="263700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3"/>
          <p:cNvSpPr/>
          <p:nvPr/>
        </p:nvSpPr>
        <p:spPr>
          <a:xfrm>
            <a:off x="244440" y="1018800"/>
            <a:ext cx="773316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танти и продукти у различитој фаз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CO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s) 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CaO(s)  +  CO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440" y="372348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ли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CO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a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у чврсте супстанце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центрација чврсте супстанце или чисте течне супстанце је једнак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о да не улазе у израз за константу равнотеже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86040" y="5934240"/>
            <a:ext cx="47757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GB" sz="3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en-GB" sz="3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285840" y="785880"/>
            <a:ext cx="84978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зразити константу равнотеже за реак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CO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 (g) + H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 (g)       CO (g) + H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O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Ако чврста или течна супстанца учествују у хетерогеном равнотежном процесу оне се не уносе у израз за константу равнотеж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7"/>
          <p:cNvGrpSpPr/>
          <p:nvPr/>
        </p:nvGrpSpPr>
        <p:grpSpPr>
          <a:xfrm>
            <a:off x="4161960" y="2205000"/>
            <a:ext cx="609840" cy="152280"/>
            <a:chOff x="4161960" y="2205000"/>
            <a:chExt cx="609840" cy="152280"/>
          </a:xfrm>
        </p:grpSpPr>
        <p:sp>
          <p:nvSpPr>
            <p:cNvPr id="189" name="Line 8"/>
            <p:cNvSpPr/>
            <p:nvPr/>
          </p:nvSpPr>
          <p:spPr>
            <a:xfrm>
              <a:off x="4162320" y="220500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 flipH="1">
              <a:off x="4161960" y="235728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357120" y="857160"/>
            <a:ext cx="84978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о чврста или течна супстанца учествују у хетерогеном равнотежном процесу оне се не уносе у израз за константу равнотеж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нстанта равнотеже којом се изражава производ растворљив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(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s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значава равнотежу која се успоставља између нерастворене чврсте фазе и њених хидратисаних јона у раствор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За растварање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Ca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s)       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aq) + 2 F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aq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sp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= [C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] [F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718080" y="4292640"/>
            <a:ext cx="53316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 flipH="1">
            <a:off x="3717720" y="4437000"/>
            <a:ext cx="53316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0" y="214200"/>
            <a:ext cx="914400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зраз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констан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авноте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еак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к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чвс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с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аства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дајућ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аство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одговарајућ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хидратис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јо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714240" y="17859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Ag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CrO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4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s)          2 Ag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 + CrO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4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2-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505240" y="2421000"/>
            <a:ext cx="3809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 [A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[Cr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3285720" y="1928880"/>
            <a:ext cx="609840" cy="152280"/>
            <a:chOff x="3285720" y="1928880"/>
            <a:chExt cx="609840" cy="152280"/>
          </a:xfrm>
        </p:grpSpPr>
        <p:sp>
          <p:nvSpPr>
            <p:cNvPr id="198" name="Line 8"/>
            <p:cNvSpPr/>
            <p:nvPr/>
          </p:nvSpPr>
          <p:spPr>
            <a:xfrm>
              <a:off x="3286080" y="192888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9"/>
            <p:cNvSpPr/>
            <p:nvPr/>
          </p:nvSpPr>
          <p:spPr>
            <a:xfrm flipH="1">
              <a:off x="3285720" y="208116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5"/>
          <p:cNvSpPr/>
          <p:nvPr/>
        </p:nvSpPr>
        <p:spPr>
          <a:xfrm>
            <a:off x="1095480" y="3573360"/>
            <a:ext cx="7391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e(OH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 F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 +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+  2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1"/>
              <p:cNvSpPr txBox="1"/>
              <p:nvPr/>
            </p:nvSpPr>
            <p:spPr>
              <a:xfrm>
                <a:off x="2038320" y="4297320"/>
                <a:ext cx="37148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,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1501920" y="5589720"/>
                <a:ext cx="614016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2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Вишеструке равнотеже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1968120" y="621360"/>
            <a:ext cx="530136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 +  B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C  +  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  +  D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E  +  F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056600" y="1651680"/>
            <a:ext cx="795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ти у првој реакцији су реактанти у другој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2"/>
          <p:cNvGraphicFramePr/>
          <p:nvPr/>
        </p:nvGraphicFramePr>
        <p:xfrm>
          <a:off x="1697040" y="2112840"/>
          <a:ext cx="551484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2112840"/>
                    <a:ext cx="5514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5"/>
          <p:cNvSpPr/>
          <p:nvPr/>
        </p:nvSpPr>
        <p:spPr>
          <a:xfrm>
            <a:off x="101520" y="3148200"/>
            <a:ext cx="894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о да ако се саберу ове две једначине добиће с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 +  B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E  +  F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5033880" y="4106880"/>
          <a:ext cx="217332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3880" y="4106880"/>
                    <a:ext cx="217332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6"/>
          <p:cNvSpPr/>
          <p:nvPr/>
        </p:nvSpPr>
        <p:spPr>
          <a:xfrm>
            <a:off x="4465440" y="105624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7"/>
          <p:cNvGraphicFramePr/>
          <p:nvPr/>
        </p:nvGraphicFramePr>
        <p:xfrm>
          <a:off x="1587600" y="5508720"/>
          <a:ext cx="6062400" cy="11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7600" y="5508720"/>
                    <a:ext cx="606240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9"/>
          <p:cNvSpPr/>
          <p:nvPr/>
        </p:nvSpPr>
        <p:spPr>
          <a:xfrm>
            <a:off x="468360" y="4105800"/>
            <a:ext cx="53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купна константа равнотеж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Везивање кисеоника за миоглобин и хемоглоб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457200" y="144792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е равнотеже су знатно сложеније од оних које смо већ разматрали. Пример комплексне равнотеже који је веома важан је везивање  кисеоника за хемоглобин у крви. Протеин миоглобин складишти кисеоник у мишићима, а затим га протеин хемоглобин транспортује у кр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Равнотежа између миоглобина и хемоглобина се може приказати следећом једначино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0"/>
          <p:cNvGrpSpPr/>
          <p:nvPr/>
        </p:nvGrpSpPr>
        <p:grpSpPr>
          <a:xfrm>
            <a:off x="3663720" y="4689000"/>
            <a:ext cx="762480" cy="153000"/>
            <a:chOff x="3663720" y="4689000"/>
            <a:chExt cx="762480" cy="153000"/>
          </a:xfrm>
        </p:grpSpPr>
        <p:cxnSp>
          <p:nvCxnSpPr>
            <p:cNvPr id="219" name="Straight Arrow Connector 4"/>
            <p:cNvCxnSpPr/>
            <p:nvPr/>
          </p:nvCxnSpPr>
          <p:spPr>
            <a:xfrm>
              <a:off x="3664080" y="4689000"/>
              <a:ext cx="76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Straight Arrow Connector 8"/>
            <p:cNvCxnSpPr/>
            <p:nvPr/>
          </p:nvCxnSpPr>
          <p:spPr>
            <a:xfrm flipH="1" flipV="1">
              <a:off x="3663720" y="4841280"/>
              <a:ext cx="76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221" name="TextBox 9"/>
          <p:cNvSpPr/>
          <p:nvPr/>
        </p:nvSpPr>
        <p:spPr>
          <a:xfrm>
            <a:off x="744120" y="4317840"/>
            <a:ext cx="583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b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aq)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+      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(g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Mb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(a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268200" y="4900680"/>
                <a:ext cx="290664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b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b</m:t>
                                </m:r>
                              </m:e>
                            </m:d>
                          </m:den>
                        </m:f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TextBox 1"/>
          <p:cNvSpPr/>
          <p:nvPr/>
        </p:nvSpPr>
        <p:spPr>
          <a:xfrm>
            <a:off x="3854520" y="43736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3"/>
          <p:cNvGrpSpPr/>
          <p:nvPr/>
        </p:nvGrpSpPr>
        <p:grpSpPr>
          <a:xfrm>
            <a:off x="151560" y="304920"/>
            <a:ext cx="5671800" cy="579600"/>
            <a:chOff x="151560" y="304920"/>
            <a:chExt cx="5671800" cy="579600"/>
          </a:xfrm>
        </p:grpSpPr>
        <p:grpSp>
          <p:nvGrpSpPr>
            <p:cNvPr id="225" name="Group 2"/>
            <p:cNvGrpSpPr/>
            <p:nvPr/>
          </p:nvGrpSpPr>
          <p:grpSpPr>
            <a:xfrm>
              <a:off x="3429000" y="457200"/>
              <a:ext cx="762480" cy="153360"/>
              <a:chOff x="3429000" y="457200"/>
              <a:chExt cx="762480" cy="153360"/>
            </a:xfrm>
          </p:grpSpPr>
          <p:cxnSp>
            <p:nvCxnSpPr>
              <p:cNvPr id="226" name="Straight Arrow Connector 3"/>
              <p:cNvCxnSpPr/>
              <p:nvPr/>
            </p:nvCxnSpPr>
            <p:spPr>
              <a:xfrm>
                <a:off x="3429360" y="45720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27" name="Straight Arrow Connector 4"/>
              <p:cNvCxnSpPr/>
              <p:nvPr/>
            </p:nvCxnSpPr>
            <p:spPr>
              <a:xfrm flipH="1" flipV="1">
                <a:off x="3429000" y="60984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228" name="TextBox 5"/>
            <p:cNvSpPr/>
            <p:nvPr/>
          </p:nvSpPr>
          <p:spPr>
            <a:xfrm>
              <a:off x="151560" y="304920"/>
              <a:ext cx="5671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b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(aq)     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     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(g)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Hb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 (aq)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24"/>
          <p:cNvGrpSpPr/>
          <p:nvPr/>
        </p:nvGrpSpPr>
        <p:grpSpPr>
          <a:xfrm>
            <a:off x="0" y="1295280"/>
            <a:ext cx="7238880" cy="579600"/>
            <a:chOff x="0" y="1295280"/>
            <a:chExt cx="7238880" cy="579600"/>
          </a:xfrm>
        </p:grpSpPr>
        <p:grpSp>
          <p:nvGrpSpPr>
            <p:cNvPr id="230" name="Group 6"/>
            <p:cNvGrpSpPr/>
            <p:nvPr/>
          </p:nvGrpSpPr>
          <p:grpSpPr>
            <a:xfrm>
              <a:off x="3504600" y="1447560"/>
              <a:ext cx="762480" cy="153720"/>
              <a:chOff x="3504600" y="1447560"/>
              <a:chExt cx="762480" cy="153720"/>
            </a:xfrm>
          </p:grpSpPr>
          <p:cxnSp>
            <p:nvCxnSpPr>
              <p:cNvPr id="231" name="Straight Arrow Connector 7"/>
              <p:cNvCxnSpPr/>
              <p:nvPr/>
            </p:nvCxnSpPr>
            <p:spPr>
              <a:xfrm>
                <a:off x="3504960" y="144756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32" name="Straight Arrow Connector 8"/>
              <p:cNvCxnSpPr/>
              <p:nvPr/>
            </p:nvCxnSpPr>
            <p:spPr>
              <a:xfrm flipH="1" flipV="1">
                <a:off x="3504600" y="160056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233" name="TextBox 9"/>
            <p:cNvSpPr/>
            <p:nvPr/>
          </p:nvSpPr>
          <p:spPr>
            <a:xfrm>
              <a:off x="0" y="1295280"/>
              <a:ext cx="7238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b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 (aq)     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     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(g)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b(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 (aq)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68760" y="3200400"/>
            <a:ext cx="6500880" cy="579600"/>
            <a:chOff x="68760" y="3200400"/>
            <a:chExt cx="6500880" cy="579600"/>
          </a:xfrm>
        </p:grpSpPr>
        <p:grpSp>
          <p:nvGrpSpPr>
            <p:cNvPr id="235" name="Group 10"/>
            <p:cNvGrpSpPr/>
            <p:nvPr/>
          </p:nvGrpSpPr>
          <p:grpSpPr>
            <a:xfrm>
              <a:off x="3504960" y="3429000"/>
              <a:ext cx="762480" cy="153360"/>
              <a:chOff x="3504960" y="3429000"/>
              <a:chExt cx="762480" cy="153360"/>
            </a:xfrm>
          </p:grpSpPr>
          <p:cxnSp>
            <p:nvCxnSpPr>
              <p:cNvPr id="236" name="Straight Arrow Connector 11"/>
              <p:cNvCxnSpPr/>
              <p:nvPr/>
            </p:nvCxnSpPr>
            <p:spPr>
              <a:xfrm>
                <a:off x="3505320" y="342900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37" name="Straight Arrow Connector 12"/>
              <p:cNvCxnSpPr/>
              <p:nvPr/>
            </p:nvCxnSpPr>
            <p:spPr>
              <a:xfrm flipH="1" flipV="1">
                <a:off x="3504960" y="358164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238" name="TextBox 13"/>
            <p:cNvSpPr/>
            <p:nvPr/>
          </p:nvSpPr>
          <p:spPr>
            <a:xfrm>
              <a:off x="68760" y="3200400"/>
              <a:ext cx="6500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b(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 (aq)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    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(g)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b(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 (aq)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20"/>
          <p:cNvGrpSpPr/>
          <p:nvPr/>
        </p:nvGrpSpPr>
        <p:grpSpPr>
          <a:xfrm>
            <a:off x="131400" y="5029200"/>
            <a:ext cx="6442920" cy="579600"/>
            <a:chOff x="131400" y="5029200"/>
            <a:chExt cx="6442920" cy="579600"/>
          </a:xfrm>
        </p:grpSpPr>
        <p:grpSp>
          <p:nvGrpSpPr>
            <p:cNvPr id="240" name="Group 14"/>
            <p:cNvGrpSpPr/>
            <p:nvPr/>
          </p:nvGrpSpPr>
          <p:grpSpPr>
            <a:xfrm>
              <a:off x="3657240" y="5257800"/>
              <a:ext cx="762480" cy="153360"/>
              <a:chOff x="3657240" y="5257800"/>
              <a:chExt cx="762480" cy="153360"/>
            </a:xfrm>
          </p:grpSpPr>
          <p:cxnSp>
            <p:nvCxnSpPr>
              <p:cNvPr id="241" name="Straight Arrow Connector 15"/>
              <p:cNvCxnSpPr/>
              <p:nvPr/>
            </p:nvCxnSpPr>
            <p:spPr>
              <a:xfrm>
                <a:off x="3657600" y="525780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42" name="Straight Arrow Connector 16"/>
              <p:cNvCxnSpPr/>
              <p:nvPr/>
            </p:nvCxnSpPr>
            <p:spPr>
              <a:xfrm flipH="1" flipV="1">
                <a:off x="3657240" y="541044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243" name="TextBox 17"/>
            <p:cNvSpPr/>
            <p:nvPr/>
          </p:nvSpPr>
          <p:spPr>
            <a:xfrm>
              <a:off x="131400" y="5029200"/>
              <a:ext cx="644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b(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 (aq)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+   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(g)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b(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4(aq)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6095880" y="380880"/>
                <a:ext cx="2489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b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2382840" y="5681520"/>
                <a:ext cx="336384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2362320" y="3809880"/>
                <a:ext cx="33638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2362320" y="1981080"/>
                <a:ext cx="306216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b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"/>
          <p:cNvGrpSpPr/>
          <p:nvPr/>
        </p:nvGrpSpPr>
        <p:grpSpPr>
          <a:xfrm>
            <a:off x="1384920" y="195120"/>
            <a:ext cx="6221520" cy="579600"/>
            <a:chOff x="1384920" y="195120"/>
            <a:chExt cx="6221520" cy="579600"/>
          </a:xfrm>
        </p:grpSpPr>
        <p:grpSp>
          <p:nvGrpSpPr>
            <p:cNvPr id="249" name="Group 4"/>
            <p:cNvGrpSpPr/>
            <p:nvPr/>
          </p:nvGrpSpPr>
          <p:grpSpPr>
            <a:xfrm>
              <a:off x="4610160" y="347400"/>
              <a:ext cx="762480" cy="153720"/>
              <a:chOff x="4610160" y="347400"/>
              <a:chExt cx="762480" cy="153720"/>
            </a:xfrm>
          </p:grpSpPr>
          <p:cxnSp>
            <p:nvCxnSpPr>
              <p:cNvPr id="250" name="Straight Arrow Connector 6"/>
              <p:cNvCxnSpPr/>
              <p:nvPr/>
            </p:nvCxnSpPr>
            <p:spPr>
              <a:xfrm>
                <a:off x="4610520" y="34740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51" name="Straight Arrow Connector 7"/>
              <p:cNvCxnSpPr/>
              <p:nvPr/>
            </p:nvCxnSpPr>
            <p:spPr>
              <a:xfrm flipH="1" flipV="1">
                <a:off x="4610160" y="50040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252" name="TextBox 5"/>
            <p:cNvSpPr/>
            <p:nvPr/>
          </p:nvSpPr>
          <p:spPr>
            <a:xfrm>
              <a:off x="1384920" y="195120"/>
              <a:ext cx="6221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b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(aq)     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     4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(g)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Hb(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4(aq)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4335480" y="1052640"/>
                <a:ext cx="25560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957240" y="981000"/>
                <a:ext cx="26575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Rectangle 3"/>
          <p:cNvSpPr/>
          <p:nvPr/>
        </p:nvSpPr>
        <p:spPr>
          <a:xfrm>
            <a:off x="539640" y="2924280"/>
            <a:ext cx="6620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RT ln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 -RTln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1214280" y="71280"/>
            <a:ext cx="6286680" cy="1007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хемијску равнотеж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1143000" y="1252440"/>
            <a:ext cx="6572160" cy="2466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 учесника у реак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ак гасовитих 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мина реакционог с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214200" y="4071960"/>
            <a:ext cx="8786880" cy="2378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 Шатељеов принцип: Ако се систему који се налази у стању равнотеже промени један од спољашњих фактора, равнотежа се помера у смеру поништавања утицаја тог спољашњег фактора тј. враћања у првобитно стањ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714240" y="71280"/>
            <a:ext cx="8143920" cy="550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концентрације на хемијску равнотеж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1428840" y="874800"/>
          <a:ext cx="635004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874800"/>
                    <a:ext cx="63500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7"/>
          <p:cNvSpPr/>
          <p:nvPr/>
        </p:nvSpPr>
        <p:spPr>
          <a:xfrm>
            <a:off x="638280" y="1714680"/>
            <a:ext cx="142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3200" spc="-1" strike="noStrike">
                <a:solidFill>
                  <a:srgbClr val="254061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633240" y="3071880"/>
            <a:ext cx="1285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3200" spc="-1" strike="noStrike">
                <a:solidFill>
                  <a:srgbClr val="254061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2214360" y="3273480"/>
            <a:ext cx="11430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3714840" y="1714680"/>
            <a:ext cx="5000400" cy="1434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 u="sng">
                <a:solidFill>
                  <a:srgbClr val="ff0000"/>
                </a:solidFill>
                <a:uFillTx/>
                <a:latin typeface="Times New Roman"/>
              </a:rPr>
              <a:t>Равнотежа се помера удесно 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повећањем концентрације реактаната или смањењем концентрације производа реак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2205000" y="19162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633240" y="2428920"/>
            <a:ext cx="1424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3200" spc="-1" strike="noStrike">
                <a:solidFill>
                  <a:srgbClr val="254061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2205000" y="25588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33240" y="3714840"/>
            <a:ext cx="1285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3200" spc="-1" strike="noStrike">
                <a:solidFill>
                  <a:srgbClr val="254061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2"/>
          <p:cNvSpPr/>
          <p:nvPr/>
        </p:nvSpPr>
        <p:spPr>
          <a:xfrm flipH="1">
            <a:off x="2214360" y="3916440"/>
            <a:ext cx="11430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33240" y="4416480"/>
            <a:ext cx="1571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sr-Latn-R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3200" spc="-1" strike="noStrike">
                <a:solidFill>
                  <a:srgbClr val="254061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633240" y="5059440"/>
            <a:ext cx="1571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sr-Latn-R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3200" spc="-1" strike="noStrike">
                <a:solidFill>
                  <a:srgbClr val="254061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 flipH="1">
            <a:off x="2204640" y="4559400"/>
            <a:ext cx="11430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0"/>
          <p:cNvSpPr/>
          <p:nvPr/>
        </p:nvSpPr>
        <p:spPr>
          <a:xfrm>
            <a:off x="2205000" y="520236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3714840" y="3786120"/>
            <a:ext cx="5000400" cy="1434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 u="sng">
                <a:solidFill>
                  <a:srgbClr val="ff0000"/>
                </a:solidFill>
                <a:uFillTx/>
                <a:latin typeface="Times New Roman"/>
              </a:rPr>
              <a:t>Равнотежа се помера улево 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смањењем концентрације реактаната или повећањем концентрације производа реак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642960" y="5786280"/>
            <a:ext cx="8143920" cy="85752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7600" indent="-3276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Промена концентрације реагујућих супстанци не утиче на вредност константе равнотеж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4" name="Straight Arrow Connector 4"/>
          <p:cNvCxnSpPr/>
          <p:nvPr/>
        </p:nvCxnSpPr>
        <p:spPr>
          <a:xfrm flipV="1">
            <a:off x="685800" y="837360"/>
            <a:ext cx="2160" cy="449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6"/>
          <p:cNvCxnSpPr/>
          <p:nvPr/>
        </p:nvCxnSpPr>
        <p:spPr>
          <a:xfrm>
            <a:off x="685440" y="5328720"/>
            <a:ext cx="297252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Straight Connector 8"/>
          <p:cNvSpPr/>
          <p:nvPr/>
        </p:nvSpPr>
        <p:spPr>
          <a:xfrm>
            <a:off x="762120" y="1752480"/>
            <a:ext cx="1371600" cy="180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9"/>
          <p:cNvSpPr/>
          <p:nvPr/>
        </p:nvSpPr>
        <p:spPr>
          <a:xfrm>
            <a:off x="2362320" y="4267080"/>
            <a:ext cx="1371600" cy="180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11"/>
          <p:cNvCxnSpPr/>
          <p:nvPr/>
        </p:nvCxnSpPr>
        <p:spPr>
          <a:xfrm>
            <a:off x="1599120" y="1752120"/>
            <a:ext cx="1524600" cy="2515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TextBox 13"/>
          <p:cNvSpPr/>
          <p:nvPr/>
        </p:nvSpPr>
        <p:spPr>
          <a:xfrm>
            <a:off x="846000" y="12193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kta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2521080" y="4419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kt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1833840" y="2666880"/>
            <a:ext cx="2215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 &lt; 0 негативн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6"/>
          <p:cNvSpPr/>
          <p:nvPr/>
        </p:nvSpPr>
        <p:spPr>
          <a:xfrm>
            <a:off x="2448000" y="1523880"/>
            <a:ext cx="20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 &lt; 0 negativ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понтан процес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25"/>
          <p:cNvCxnSpPr/>
          <p:nvPr/>
        </p:nvCxnSpPr>
        <p:spPr>
          <a:xfrm flipV="1">
            <a:off x="5256360" y="1428480"/>
            <a:ext cx="2160" cy="3962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traight Arrow Connector 26"/>
          <p:cNvCxnSpPr/>
          <p:nvPr/>
        </p:nvCxnSpPr>
        <p:spPr>
          <a:xfrm>
            <a:off x="5179680" y="5390640"/>
            <a:ext cx="297252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Straight Connector 27"/>
          <p:cNvSpPr/>
          <p:nvPr/>
        </p:nvSpPr>
        <p:spPr>
          <a:xfrm>
            <a:off x="5256360" y="4857840"/>
            <a:ext cx="137160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28"/>
          <p:cNvSpPr/>
          <p:nvPr/>
        </p:nvSpPr>
        <p:spPr>
          <a:xfrm>
            <a:off x="6856560" y="2114640"/>
            <a:ext cx="137160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traight Arrow Connector 29"/>
          <p:cNvCxnSpPr/>
          <p:nvPr/>
        </p:nvCxnSpPr>
        <p:spPr>
          <a:xfrm flipV="1">
            <a:off x="5713560" y="2114640"/>
            <a:ext cx="1296000" cy="26672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8" name="TextBox 30"/>
          <p:cNvSpPr/>
          <p:nvPr/>
        </p:nvSpPr>
        <p:spPr>
          <a:xfrm>
            <a:off x="5340240" y="49338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kta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1"/>
          <p:cNvSpPr/>
          <p:nvPr/>
        </p:nvSpPr>
        <p:spPr>
          <a:xfrm>
            <a:off x="7091640" y="22669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kt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2"/>
          <p:cNvSpPr/>
          <p:nvPr/>
        </p:nvSpPr>
        <p:spPr>
          <a:xfrm>
            <a:off x="5797800" y="3181320"/>
            <a:ext cx="2170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 &gt;0 позитивн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3"/>
          <p:cNvSpPr/>
          <p:nvPr/>
        </p:nvSpPr>
        <p:spPr>
          <a:xfrm>
            <a:off x="6333480" y="1276200"/>
            <a:ext cx="23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 &gt; 0 pozitiv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спонтан процес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603000" y="223920"/>
            <a:ext cx="84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ибсова слободна енергија хемијске реак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514600" y="580536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H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9"/>
          <p:cNvSpPr/>
          <p:nvPr/>
        </p:nvSpPr>
        <p:spPr>
          <a:xfrm rot="16200000">
            <a:off x="-1854360" y="3059280"/>
            <a:ext cx="43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ибсова слободна енер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714240" y="303120"/>
            <a:ext cx="8143920" cy="550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притиска на хемијску равнотеж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4"/>
          <p:cNvGraphicFramePr/>
          <p:nvPr/>
        </p:nvGraphicFramePr>
        <p:xfrm>
          <a:off x="1285920" y="1279440"/>
          <a:ext cx="63500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279440"/>
                    <a:ext cx="63500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ight Brace 4"/>
          <p:cNvSpPr/>
          <p:nvPr/>
        </p:nvSpPr>
        <p:spPr>
          <a:xfrm rot="5400000">
            <a:off x="2643120" y="475920"/>
            <a:ext cx="500040" cy="321480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3214800"/>
              <a:gd name="textAreaBottom" fmla="*/ 3201840 h 32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"/>
                  <a:pt x="10800" y="280"/>
                </a:cubicBezTo>
                <a:lnTo>
                  <a:pt x="10800" y="10520"/>
                </a:lnTo>
                <a:cubicBezTo>
                  <a:pt x="10800" y="10660"/>
                  <a:pt x="16200" y="10800"/>
                  <a:pt x="21600" y="10800"/>
                </a:cubicBezTo>
                <a:cubicBezTo>
                  <a:pt x="16200" y="10800"/>
                  <a:pt x="10800" y="10940"/>
                  <a:pt x="10800" y="11080"/>
                </a:cubicBezTo>
                <a:lnTo>
                  <a:pt x="10800" y="21320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ight Brace 5"/>
          <p:cNvSpPr/>
          <p:nvPr/>
        </p:nvSpPr>
        <p:spPr>
          <a:xfrm rot="5400000">
            <a:off x="6429240" y="1261800"/>
            <a:ext cx="500040" cy="164304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643040"/>
              <a:gd name="textAreaBottom" fmla="*/ 16300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4"/>
                  <a:pt x="10800" y="548"/>
                </a:cubicBezTo>
                <a:lnTo>
                  <a:pt x="10800" y="10252"/>
                </a:lnTo>
                <a:cubicBezTo>
                  <a:pt x="10800" y="10526"/>
                  <a:pt x="16200" y="10800"/>
                  <a:pt x="21600" y="10800"/>
                </a:cubicBezTo>
                <a:cubicBezTo>
                  <a:pt x="16200" y="10800"/>
                  <a:pt x="10800" y="11074"/>
                  <a:pt x="10800" y="11348"/>
                </a:cubicBezTo>
                <a:lnTo>
                  <a:pt x="10800" y="21052"/>
                </a:lnTo>
                <a:cubicBezTo>
                  <a:pt x="10800" y="2132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2214720" y="2405160"/>
            <a:ext cx="135720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143760" y="2405160"/>
            <a:ext cx="135720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71680" y="335772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sr-Latn-R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254061"/>
                </a:solidFill>
                <a:latin typeface="Symbol"/>
                <a:ea typeface="Symbol"/>
              </a:rPr>
              <a:t>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71680" y="5000760"/>
            <a:ext cx="110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4000" spc="-1" strike="noStrike">
                <a:solidFill>
                  <a:srgbClr val="254061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3"/>
          <p:cNvSpPr/>
          <p:nvPr/>
        </p:nvSpPr>
        <p:spPr>
          <a:xfrm>
            <a:off x="3505320" y="3276720"/>
            <a:ext cx="518148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м притиска, равнотежа се помера у смеру грађења мањег броја молекула г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4"/>
          <p:cNvSpPr/>
          <p:nvPr/>
        </p:nvSpPr>
        <p:spPr>
          <a:xfrm>
            <a:off x="3581280" y="4800600"/>
            <a:ext cx="518184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м притиска, равнотежа се помера у смеру грађења већег броја молекула г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2"/>
          <p:cNvSpPr/>
          <p:nvPr/>
        </p:nvSpPr>
        <p:spPr>
          <a:xfrm flipH="1">
            <a:off x="1714320" y="5286240"/>
            <a:ext cx="11430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1704960" y="371484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1"/>
          <p:cNvSpPr/>
          <p:nvPr/>
        </p:nvSpPr>
        <p:spPr>
          <a:xfrm>
            <a:off x="214200" y="214200"/>
            <a:ext cx="8501040" cy="1464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ак не утиче на положај равнотеже за реакције које се одигравају без промене броја молова учесника у реакциј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1496880" y="2374920"/>
          <a:ext cx="592452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2374920"/>
                    <a:ext cx="59245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ight Brace 3"/>
          <p:cNvSpPr/>
          <p:nvPr/>
        </p:nvSpPr>
        <p:spPr>
          <a:xfrm rot="5400000">
            <a:off x="2643120" y="1571400"/>
            <a:ext cx="500040" cy="321480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3214800"/>
              <a:gd name="textAreaBottom" fmla="*/ 3201840 h 32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"/>
                  <a:pt x="10800" y="280"/>
                </a:cubicBezTo>
                <a:lnTo>
                  <a:pt x="10800" y="10520"/>
                </a:lnTo>
                <a:cubicBezTo>
                  <a:pt x="10800" y="10660"/>
                  <a:pt x="16200" y="10800"/>
                  <a:pt x="21600" y="10800"/>
                </a:cubicBezTo>
                <a:cubicBezTo>
                  <a:pt x="16200" y="10800"/>
                  <a:pt x="10800" y="10940"/>
                  <a:pt x="10800" y="11080"/>
                </a:cubicBezTo>
                <a:lnTo>
                  <a:pt x="10800" y="21320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ight Brace 4"/>
          <p:cNvSpPr/>
          <p:nvPr/>
        </p:nvSpPr>
        <p:spPr>
          <a:xfrm rot="5400000">
            <a:off x="6429240" y="2357280"/>
            <a:ext cx="500040" cy="164304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643040"/>
              <a:gd name="textAreaBottom" fmla="*/ 16300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4"/>
                  <a:pt x="10800" y="548"/>
                </a:cubicBezTo>
                <a:lnTo>
                  <a:pt x="10800" y="10252"/>
                </a:lnTo>
                <a:cubicBezTo>
                  <a:pt x="10800" y="10526"/>
                  <a:pt x="16200" y="10800"/>
                  <a:pt x="21600" y="10800"/>
                </a:cubicBezTo>
                <a:cubicBezTo>
                  <a:pt x="16200" y="10800"/>
                  <a:pt x="10800" y="11074"/>
                  <a:pt x="10800" y="11348"/>
                </a:cubicBezTo>
                <a:lnTo>
                  <a:pt x="10800" y="21052"/>
                </a:lnTo>
                <a:cubicBezTo>
                  <a:pt x="10800" y="2132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2214720" y="3500280"/>
            <a:ext cx="135720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6143760" y="3500280"/>
            <a:ext cx="135720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642960" y="4643280"/>
            <a:ext cx="8143920" cy="85752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7600" indent="-3276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Промена притиска не утиче на вредност константе равнотеж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3"/>
          <p:cNvSpPr/>
          <p:nvPr/>
        </p:nvSpPr>
        <p:spPr>
          <a:xfrm>
            <a:off x="714240" y="303120"/>
            <a:ext cx="8143920" cy="550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температуре на хемијску равнотеж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2428920" y="1333440"/>
            <a:ext cx="385776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2"/>
          <p:cNvGraphicFramePr/>
          <p:nvPr/>
        </p:nvGraphicFramePr>
        <p:xfrm>
          <a:off x="2286000" y="1857240"/>
          <a:ext cx="4146480" cy="12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857240"/>
                    <a:ext cx="4146480" cy="12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Rectangle 6"/>
          <p:cNvSpPr/>
          <p:nvPr/>
        </p:nvSpPr>
        <p:spPr>
          <a:xfrm>
            <a:off x="785880" y="3071880"/>
            <a:ext cx="3214800" cy="2571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не ослобађањем топл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ТЕР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)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4786200" y="3071880"/>
            <a:ext cx="3214800" cy="2571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не </a:t>
            </a:r>
            <a:br>
              <a:rPr sz="2400"/>
            </a:b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шком топл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Р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)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642960" y="708120"/>
            <a:ext cx="8143920" cy="1136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се увек односи на директну реак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2"/>
          <p:cNvSpPr/>
          <p:nvPr/>
        </p:nvSpPr>
        <p:spPr>
          <a:xfrm flipH="1">
            <a:off x="1285560" y="3429000"/>
            <a:ext cx="11430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285920" y="30718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28760" y="2357280"/>
            <a:ext cx="300024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гзотерм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428760" y="3619440"/>
            <a:ext cx="300024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ндотерм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2"/>
          <p:cNvSpPr/>
          <p:nvPr/>
        </p:nvSpPr>
        <p:spPr>
          <a:xfrm flipH="1">
            <a:off x="6286320" y="3429000"/>
            <a:ext cx="11430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0"/>
          <p:cNvSpPr/>
          <p:nvPr/>
        </p:nvSpPr>
        <p:spPr>
          <a:xfrm>
            <a:off x="6286680" y="30718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5429160" y="2357280"/>
            <a:ext cx="300060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ндотерм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5429160" y="3619440"/>
            <a:ext cx="300060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гзотерм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642960" y="4643280"/>
            <a:ext cx="8143920" cy="85752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7600" indent="-3276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Промена температуре утиче на вредност константе равнотеж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4"/>
          <p:cNvGraphicFramePr/>
          <p:nvPr/>
        </p:nvGraphicFramePr>
        <p:xfrm>
          <a:off x="1500120" y="357120"/>
          <a:ext cx="63500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57120"/>
                    <a:ext cx="63500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Box 2"/>
          <p:cNvSpPr/>
          <p:nvPr/>
        </p:nvSpPr>
        <p:spPr>
          <a:xfrm>
            <a:off x="2357280" y="1071720"/>
            <a:ext cx="4214880" cy="648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-92,47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71680" y="22953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4000" spc="-1" strike="noStrike">
                <a:solidFill>
                  <a:srgbClr val="254061"/>
                </a:solidFill>
                <a:latin typeface="Symbol"/>
                <a:ea typeface="Symbol"/>
              </a:rPr>
              <a:t>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571680" y="4721400"/>
            <a:ext cx="110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4000" spc="-1" strike="noStrike">
                <a:solidFill>
                  <a:srgbClr val="254061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5"/>
          <p:cNvSpPr/>
          <p:nvPr/>
        </p:nvSpPr>
        <p:spPr>
          <a:xfrm>
            <a:off x="3429000" y="1919160"/>
            <a:ext cx="5181480" cy="1922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већањем температуре у реакционом систем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отежа се помера у оном смеру у ком се апсорбује топлота тј.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 смеру ендотермне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2"/>
          <p:cNvSpPr/>
          <p:nvPr/>
        </p:nvSpPr>
        <p:spPr>
          <a:xfrm flipH="1">
            <a:off x="1714320" y="2643120"/>
            <a:ext cx="11430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>
            <a:off x="1714680" y="49258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9"/>
          <p:cNvSpPr/>
          <p:nvPr/>
        </p:nvSpPr>
        <p:spPr>
          <a:xfrm>
            <a:off x="3429000" y="4348080"/>
            <a:ext cx="5181480" cy="1922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нижењем температуре у реакционом систем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отежа се помера у оном смеру у ком се ослобађа топлота тј.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 смеру егзотермне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2258280" y="6211800"/>
            <a:ext cx="43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 =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+ RT ln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4088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Слободна енергија хемијске реакције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642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ко посматрамо  повратну, реверзибилну хемијску хемијску реакциј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2357280" y="1571760"/>
                <a:ext cx="375948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A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B </m:t>
                    </m:r>
                    <m:m>
                      <m:mr>
                        <m:e>
                          <m:r>
                            <m:t xml:space="preserve">→</m:t>
                          </m:r>
                        </m:e>
                      </m:mr>
                      <m:mr>
                        <m:e>
                          <m:r>
                            <m:t xml:space="preserve">←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c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d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7"/>
          <p:cNvSpPr/>
          <p:nvPr/>
        </p:nvSpPr>
        <p:spPr>
          <a:xfrm>
            <a:off x="285840" y="2363760"/>
            <a:ext cx="885816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мена стандардне слободне енергије реакције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одговара стањима када се сви реактанти и продукти налазе у својим стандардним стањима, то јест имају притисак 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at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ли све концентраци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mol/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ко реакција тече концентрације и реактаната и продуката се мењају и не могу бити једна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mol/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то је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ко: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686600" y="2000160"/>
            <a:ext cx="43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 =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+ RT ln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282600" y="3227400"/>
            <a:ext cx="49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 промена слободне енергије при стандардним услов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85840" y="461160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цион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ни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Q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нос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дук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тан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дигнут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еп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ехиометријс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ефицијен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с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тходн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хемијск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чини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5429160" y="3000240"/>
                <a:ext cx="3071880" cy="16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Left Arrow 7"/>
          <p:cNvSpPr/>
          <p:nvPr/>
        </p:nvSpPr>
        <p:spPr>
          <a:xfrm rot="16200000">
            <a:off x="3000240" y="2642760"/>
            <a:ext cx="78588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eft Arrow 8"/>
          <p:cNvSpPr/>
          <p:nvPr/>
        </p:nvSpPr>
        <p:spPr>
          <a:xfrm rot="16200000">
            <a:off x="5143320" y="2642760"/>
            <a:ext cx="78588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лободна енергија се мора изразити тако да обухвати промену слободне енергије у стандардном ст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 промену слободне енергије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бог тога што тече хемијска реак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5929200" y="142884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цио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и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сл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       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5"/>
          <p:cNvGrpSpPr/>
          <p:nvPr/>
        </p:nvGrpSpPr>
        <p:grpSpPr>
          <a:xfrm>
            <a:off x="2428920" y="2409480"/>
            <a:ext cx="4648320" cy="4442040"/>
            <a:chOff x="2428920" y="2409480"/>
            <a:chExt cx="4648320" cy="4442040"/>
          </a:xfrm>
        </p:grpSpPr>
        <p:sp>
          <p:nvSpPr>
            <p:cNvPr id="90" name="Line 6"/>
            <p:cNvSpPr/>
            <p:nvPr/>
          </p:nvSpPr>
          <p:spPr>
            <a:xfrm>
              <a:off x="2900160" y="6228000"/>
              <a:ext cx="410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7"/>
            <p:cNvSpPr/>
            <p:nvPr/>
          </p:nvSpPr>
          <p:spPr>
            <a:xfrm flipV="1">
              <a:off x="2878560" y="2615040"/>
              <a:ext cx="0" cy="363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5781240" y="6275160"/>
              <a:ext cx="1296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врем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 rot="16200000">
              <a:off x="688320" y="4150080"/>
              <a:ext cx="3935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ncentracija mol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rc 10"/>
            <p:cNvSpPr/>
            <p:nvPr/>
          </p:nvSpPr>
          <p:spPr>
            <a:xfrm>
              <a:off x="2886120" y="2896200"/>
              <a:ext cx="3964320" cy="3084120"/>
            </a:xfrm>
            <a:custGeom>
              <a:avLst/>
              <a:gdLst>
                <a:gd name="textAreaLeft" fmla="*/ 0 w 3964320"/>
                <a:gd name="textAreaRight" fmla="*/ 3964680 w 3964320"/>
                <a:gd name="textAreaTop" fmla="*/ 0 h 3084120"/>
                <a:gd name="textAreaBottom" fmla="*/ 3084480 h 3084120"/>
              </a:gdLst>
              <a:ahLst/>
              <a:rect l="textAreaLeft" t="textAreaTop" r="textAreaRight" b="textAreaBottom"/>
              <a:pathLst>
                <a:path fill="none" w="21088" h="21600">
                  <a:moveTo>
                    <a:pt x="21061" y="21599"/>
                  </a:moveTo>
                  <a:cubicBezTo>
                    <a:pt x="10942" y="21587"/>
                    <a:pt x="2189" y="14552"/>
                    <a:pt x="-1" y="4674"/>
                  </a:cubicBezTo>
                </a:path>
                <a:path stroke="0" w="21088" h="21600">
                  <a:moveTo>
                    <a:pt x="21061" y="21599"/>
                  </a:moveTo>
                  <a:cubicBezTo>
                    <a:pt x="10942" y="21587"/>
                    <a:pt x="2189" y="14552"/>
                    <a:pt x="-1" y="4674"/>
                  </a:cubicBezTo>
                  <a:lnTo>
                    <a:pt x="21088" y="0"/>
                  </a:lnTo>
                  <a:lnTo>
                    <a:pt x="21061" y="21599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rc 11"/>
            <p:cNvSpPr/>
            <p:nvPr/>
          </p:nvSpPr>
          <p:spPr>
            <a:xfrm rot="10800000">
              <a:off x="2914200" y="3741480"/>
              <a:ext cx="3964320" cy="3084120"/>
            </a:xfrm>
            <a:custGeom>
              <a:avLst/>
              <a:gdLst>
                <a:gd name="textAreaLeft" fmla="*/ 0 w 3964320"/>
                <a:gd name="textAreaRight" fmla="*/ 3964680 w 3964320"/>
                <a:gd name="textAreaTop" fmla="*/ 0 h 3084120"/>
                <a:gd name="textAreaBottom" fmla="*/ 3084480 h 3084120"/>
              </a:gdLst>
              <a:ahLst/>
              <a:rect l="textAreaLeft" t="textAreaTop" r="textAreaRight" b="textAreaBottom"/>
              <a:pathLst>
                <a:path fill="none" w="21083" h="21600">
                  <a:moveTo>
                    <a:pt x="21083" y="4696"/>
                  </a:moveTo>
                  <a:cubicBezTo>
                    <a:pt x="18883" y="14573"/>
                    <a:pt x="10119" y="21599"/>
                    <a:pt x="0" y="21600"/>
                  </a:cubicBezTo>
                </a:path>
                <a:path stroke="0" w="21083" h="21600">
                  <a:moveTo>
                    <a:pt x="21083" y="4696"/>
                  </a:moveTo>
                  <a:cubicBezTo>
                    <a:pt x="18883" y="14573"/>
                    <a:pt x="10119" y="21599"/>
                    <a:pt x="0" y="21600"/>
                  </a:cubicBezTo>
                  <a:lnTo>
                    <a:pt x="0" y="0"/>
                  </a:lnTo>
                  <a:lnTo>
                    <a:pt x="21083" y="4696"/>
                  </a:lnTo>
                  <a:close/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5"/>
          <p:cNvSpPr/>
          <p:nvPr/>
        </p:nvSpPr>
        <p:spPr>
          <a:xfrm>
            <a:off x="4721400" y="36957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41000" y="369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16"/>
          <p:cNvCxnSpPr/>
          <p:nvPr/>
        </p:nvCxnSpPr>
        <p:spPr>
          <a:xfrm flipH="1">
            <a:off x="6786360" y="3768480"/>
            <a:ext cx="2160" cy="221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99" name="Rectangle 5"/>
          <p:cNvSpPr/>
          <p:nvPr/>
        </p:nvSpPr>
        <p:spPr>
          <a:xfrm>
            <a:off x="6760440" y="5624640"/>
            <a:ext cx="23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равноте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801840" y="32860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B равнотежно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23"/>
          <p:cNvCxnSpPr/>
          <p:nvPr/>
        </p:nvCxnSpPr>
        <p:spPr>
          <a:xfrm>
            <a:off x="4286160" y="64296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Straight Arrow Connector 25"/>
          <p:cNvCxnSpPr/>
          <p:nvPr/>
        </p:nvCxnSpPr>
        <p:spPr>
          <a:xfrm flipH="1" flipV="1">
            <a:off x="4214520" y="928440"/>
            <a:ext cx="7149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357120" y="4052880"/>
                <a:ext cx="1928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4" name="Picture 4" descr=""/>
          <p:cNvPicPr/>
          <p:nvPr/>
        </p:nvPicPr>
        <p:blipFill>
          <a:blip r:embed="rId1"/>
          <a:srcRect l="0" t="31947" r="0" b="26714"/>
          <a:stretch/>
        </p:blipFill>
        <p:spPr>
          <a:xfrm>
            <a:off x="642960" y="857160"/>
            <a:ext cx="7772400" cy="22100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7099200" y="449280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      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19"/>
          <p:cNvCxnSpPr/>
          <p:nvPr/>
        </p:nvCxnSpPr>
        <p:spPr>
          <a:xfrm>
            <a:off x="7619760" y="4633920"/>
            <a:ext cx="6325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20"/>
          <p:cNvCxnSpPr/>
          <p:nvPr/>
        </p:nvCxnSpPr>
        <p:spPr>
          <a:xfrm flipH="1">
            <a:off x="7632360" y="4827240"/>
            <a:ext cx="619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360" y="98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 равнотежи ће </a:t>
            </a:r>
            <a:r>
              <a:rPr b="1" lang="el-G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G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=0, па ће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Q =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едити: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720880" y="2241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RT ln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3056040" y="2900520"/>
                <a:ext cx="24508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Rectangle 5"/>
          <p:cNvSpPr/>
          <p:nvPr/>
        </p:nvSpPr>
        <p:spPr>
          <a:xfrm>
            <a:off x="250920" y="4365720"/>
            <a:ext cx="8715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де је К константа равнотеже и представља одн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дук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тан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дигнут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еп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ехиометријс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ефицијен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с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 успостављаној равнотеж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2097720" y="189000"/>
            <a:ext cx="43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 =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+ RT ln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00040" y="1571760"/>
          <a:ext cx="7929720" cy="4724280"/>
        </p:xfrm>
        <a:graphic>
          <a:graphicData uri="http://schemas.openxmlformats.org/drawingml/2006/table">
            <a:tbl>
              <a:tblPr/>
              <a:tblGrid>
                <a:gridCol w="712800"/>
                <a:gridCol w="7216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о је реакција егзотермна (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lt;0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g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&lt;0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&gt;1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 свим температурам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о је реакција егзотермна   (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lt;0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l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&lt;0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&gt;1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гађа се ако је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&lt;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о је реакција ендотермна   (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gt;0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g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&lt;0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&gt;1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гађа се ако је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&gt;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о је реакција ендотермна (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gt;0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l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&gt;0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&lt;1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и на једној температури није спонт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4" name="Rectangle 5"/>
          <p:cNvSpPr/>
          <p:nvPr/>
        </p:nvSpPr>
        <p:spPr>
          <a:xfrm>
            <a:off x="1214280" y="285840"/>
            <a:ext cx="64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рмодинамички критеријуми спонта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49536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гатив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л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внотеж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мера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циј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рађењ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ду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d:\chapt20\tables_library\20_02.jpg"/>
          <p:cNvPicPr/>
          <p:nvPr/>
        </p:nvPicPr>
        <p:blipFill>
          <a:blip r:embed="rId1"/>
          <a:stretch/>
        </p:blipFill>
        <p:spPr>
          <a:xfrm>
            <a:off x="0" y="1600200"/>
            <a:ext cx="91407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04:55:35Z</dcterms:created>
  <dc:creator>Vera Dondur</dc:creator>
  <dc:description/>
  <dc:language>en-US</dc:language>
  <cp:lastModifiedBy>Snezana Jovanovic</cp:lastModifiedBy>
  <dcterms:modified xsi:type="dcterms:W3CDTF">2023-10-28T10:24:27Z</dcterms:modified>
  <cp:revision>154</cp:revision>
  <dc:subject/>
  <dc:title>Termodinamika  Spontanost, Entropija,  Slobodna energija, Konstanta ravnoeže</dc:title>
</cp:coreProperties>
</file>